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527A-1958-47DA-A3C9-345120E9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FB87-CEB2-4D0F-9238-2FAE19C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455F-2FF3-44ED-8B37-1D063D710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7CD-005B-47B8-B5D0-C8BE3689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17CF-DA9B-4CCA-876A-11CF2395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8290-D00D-4D76-9B53-63A90B4D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14D3-DF9E-4C5F-8A59-D0FE741F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B0EC-6200-49E6-9B52-9605D1D3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4F5F-4091-40AF-9707-5DEDA1CC6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FA4A-0DB7-4A05-A013-022590BA9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88EE-8C5B-40E2-A3D7-8359A0628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8F52-2FB3-4651-9DE4-A64B216E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C318-90ED-4BAB-B597-8702A8D9EE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012080" y="60199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2AE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War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W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F28F-7BB5-4B84-A8BF-5C9EE1054F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cope Statemen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the completion of this lesson you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ome familiar with MWR policies and procedures, echelon responsibilities, funding and planning requirements on the battlefield, and mobilization/demobilization procedu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083-31B3-42FD-BD28-BEA5DE93E8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WR On The Battle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85800" y="4495680"/>
            <a:ext cx="1371600" cy="160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867280" y="2286000"/>
            <a:ext cx="898560" cy="838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162920" y="4876920"/>
            <a:ext cx="664920" cy="900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705720" y="3505320"/>
            <a:ext cx="1066680" cy="990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5715000" y="4648320"/>
            <a:ext cx="1390680" cy="1358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7162920" y="1981080"/>
            <a:ext cx="1241280" cy="1382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7"/>
          <a:stretch/>
        </p:blipFill>
        <p:spPr>
          <a:xfrm>
            <a:off x="762120" y="3733920"/>
            <a:ext cx="844560" cy="93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1447920" y="2286000"/>
            <a:ext cx="1008000" cy="1482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9"/>
          <a:stretch/>
        </p:blipFill>
        <p:spPr>
          <a:xfrm>
            <a:off x="2590920" y="2438280"/>
            <a:ext cx="3276360" cy="335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05AA-9181-4A8F-899C-4BA0C68E94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32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RAL, WELFARE, RE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04880" y="1628640"/>
          <a:ext cx="7734240" cy="42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1628640"/>
                    <a:ext cx="7734240" cy="42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42AD-2E68-4993-8A8E-1140328FEC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unding and Planning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ppropriated Funds (AP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itary Personnel-Army (M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erations and Maintenance-Army  (OM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litary Construction-A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1218960" y="4190760"/>
            <a:ext cx="7010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n-Appropriated funds (NA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har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FC9-2BE7-4492-B5BD-8B9AC9E86E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ication of DOD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tegory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ed forces professional entertainment programs overs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ymnasium, physical fitness, and aquatic trai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ks and picnic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tion 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 admission mov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rts and athletic activities, etc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ategory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ts and crafts skill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otive skill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ld development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door recre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reational swimming p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rts programs above intramur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outh services, etc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EAF0-187B-49A9-A7F2-05204F3300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assification of DOD activities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’d</a:t>
            </a:r>
            <a:br>
              <a:rPr sz="32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tegory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ero activities such as flying club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usement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ivities related to AAF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wling cen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ary guest fac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lf cour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torcycle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chute and skydiving activ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ating rin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keet/trap r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nack bars/soda founta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ercial travels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service facilities, such as the Sanno Hotel, Tokyo, Japan, etc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1A33-0770-4CE7-AB86-B8108D384F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7T16:02:48Z</dcterms:created>
  <dc:creator>Torrey moore</dc:creator>
  <dc:description/>
  <dc:language>en-US</dc:language>
  <cp:lastModifiedBy>Administrator</cp:lastModifiedBy>
  <cp:lastPrinted>1999-03-07T17:43:16Z</cp:lastPrinted>
  <dcterms:modified xsi:type="dcterms:W3CDTF">2005-07-08T12:14:31Z</dcterms:modified>
  <cp:revision>14</cp:revision>
  <dc:subject/>
  <dc:title>Scope Statement: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C\CCC5HE04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